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6CC2-E218-4956-AF1A-85DB497E5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0DA8-3368-4F87-A0C7-FAF93C20F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1FDC-9F3D-415D-873B-63FA26249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3DE2-6E4C-4EE3-86D8-333467C51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D980-ED8D-4992-89CB-101F9697F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4D04-7D37-4F01-B802-0DD2D1D81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353D-3511-40E4-8545-BB0178B99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A314-9FE5-4D5C-AB00-F07CB761E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B9B7-26EF-4C73-97E2-AD6F7EC09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4C08-2C4E-4DD0-81D9-1CF3B145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ADB7-1F9F-4B91-947B-DA534530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1F77-3925-4F6A-8983-2CA2DFAA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9AD79C-B603-44F0-890D-8D10BCA963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E7EF29-3EDC-4C73-8042-F0526A4037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286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stematic Phonics Instruc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s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le Language Classrooms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nstructional approach has the best results on emergent readers’ succes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919680"/>
            <a:ext cx="6400800" cy="21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Andrea Kras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Crystal Gome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EDU 7201T – Applied Theory and Research 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Dr. O’Connor-Petrus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Fall 20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898989"/>
                </a:solidFill>
                <a:latin typeface="Calibri"/>
              </a:rPr>
              <a:t>Presentation 10/19/201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lanced Literac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earch Hypothe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osing Comments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Questions??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ble of Cont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blem Pres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terature Review: Phon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on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iterature Review: Whole Language Classro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ole Language Classroom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iterature Review: Balanced Literac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00:18:21Z</dcterms:created>
  <dc:creator>Andrea Krasne</dc:creator>
  <dc:description/>
  <dc:language>en-US</dc:language>
  <cp:lastModifiedBy>Student</cp:lastModifiedBy>
  <dcterms:modified xsi:type="dcterms:W3CDTF">2010-10-13T21:53:31Z</dcterms:modified>
  <cp:revision>10</cp:revision>
  <dc:subject/>
  <dc:title>Systematic Phonics Instruction  vs.  Whole Language Classrooms</dc:title>
</cp:coreProperties>
</file>